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F2A7-EBCB-4297-AC70-7B0695AE61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8340-D184-4E96-ACB5-BF049C42AB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7E3-ABB8-4EE6-AAAB-A95CD628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6FD-0C59-4C42-8D4D-0B3AA891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DC0-8B8E-4EE0-9F6B-A8D1F757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358-9624-4AE9-9321-E5535CF4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9686-CAAC-4000-A8BE-B2528CC0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B068-130E-4280-A4A6-E0589331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3CA6-7C6A-4BEF-8335-F08FA096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2B04-B347-43F4-B3C6-000A3E02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3E4D-6876-4290-ADEA-9C8E62A4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ACAB-F96F-4265-85DC-7D61B9FF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7E77-A996-4490-81A7-E223F605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DAF-6604-42D9-A068-CC59B1A9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D577-5EB6-4531-A465-B34B2B48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CB67-033D-4A82-A82A-7DEBF7EE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6A2D-4632-47C6-BAB1-363E9CB0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5BB6-484B-4BBF-A6D8-EF03DE78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265E-CEF7-4D66-AB25-85FA43AC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BF7-A442-4B78-A072-E5AFF095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22E8-D1C8-4B08-9BD5-4FDACBBC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465-BF75-435D-A997-56E778DF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F8B-5459-4C05-9E91-CED7C9CA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3A7-50EA-4D97-AE19-747D4693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A99-E3E9-4F3E-9961-CAAD030D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CBA-0FB8-423C-AFCA-83BE056D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2563-7E51-49DD-BC01-1B481A50AE47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A6E4-EEAB-4BB1-890A-591E2A2484C0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MUTUELLE DES FORCES ARMÉES NATIONALES (MUFAN)</a:t>
            </a:r>
            <a:r>
              <a:rPr b="0" lang="fr-FR" sz="5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5800"/>
            </a:br>
            <a:r>
              <a:rPr b="0" lang="fr-FR" sz="3600" spc="-1" strike="noStrike">
                <a:solidFill>
                  <a:srgbClr val="999900"/>
                </a:solidFill>
                <a:latin typeface="Garamond"/>
              </a:rPr>
              <a:t>prestations garanties et modalités de prise en char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 colonel-major  Dominique ZO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onomiste de la san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recteur de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urbe de demande d’adhésion en fonction de la prime (R2=0,51) (10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704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0980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1009800" y="1905120"/>
          <a:ext cx="7124400" cy="53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9800" y="1905120"/>
                    <a:ext cx="712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Dépenses de santé en fonction de l’âge (11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prime (cotisations)  (12)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4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ût  moyen de l’hospitalisation 3236,55f/ adhé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80%,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prime = 2588,8 franc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es 20% à la charge de l’adhérent (ticket modéra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rime équi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off= 2 fois prime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sous-off = 1,5 fois prime du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rimes par catégorie (1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iciers          = 4843 (50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-officiers= 3632 (36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DR              = 2421,5 (2400) fran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II) Le panier de soins (1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66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ilitaire seul sans sa fam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es  géographiques de l’off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lateau technique national public/ à défaut, le priv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stations offe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édicaments          consultations spécialis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boratoire               Imagerie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ôtellerie                  Acte chirurg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V) Modalités de prise en charge (1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édicament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ayant l’AMM au Burkina Fa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escription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iques et spécial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vitamines non thérapeut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fortifi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afonnement de l’ordonnance à 3 mois de trai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torisation spéciale si ordonnance &gt;100000 f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itement du couple en cas d’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duit d’hygiène, cosmétologie, aphrodisiaqu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non prise en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diction de PEC si un examen&gt;50 000 fr sauf dérogation (prélèvements envoyés en 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ultations spécial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ncip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7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ag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cte chirur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irurgie esthétique non 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plafonnement dans la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C de prothèse bilatérale à la polyclinique NDP pour un montant de 1,6 millions en mai 201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ôtelleri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chambre d’hospit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cation des tarifs en vigueur dans le secteur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cas de prise en charge en clinique privée l’hôtellerie est incl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limitée au plateau technique national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donc pas de greffes d’organe, de chirurgie cardiaqu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Pas de PEC des prothèses dentaires, des verres correcte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C de la MUFAN = panier intermédiaire RAMU-B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lan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) La  genèse de la MUFAN (contexte et justific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) L’Etude de faisabil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I) Le panier de so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V) Les conditions de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) Les résultats atte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) Les enseignements à ti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0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partenaires (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service assurance qual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u respect du palier de prescri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e l’identité du bénéficiaire de la pres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des produits non pris en charge par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si quantité&gt; 3 mois de traitement ou 100 000 f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u réseau de parte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es procédures médico-milit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 des documents d’identification au presta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n PEC des examens demandés dans le cadre médico-administratif (aptitude pour stage ou mission) ou dans le cadre médico-légal (test d’AD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lafonnement à 250 000fr en l’absence d’une pathologie chronique identifiée (suspension de la PEC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ers payant avec un ticket modérateur de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) Les résultats atteints    (2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de 95% des militaires sont membres de la MUF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giciel de traitement de données adapté à la gestion du portefeuille de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2014, plus de 10 000 adhérents PEC pour un montant de plus de 437 millions  la PEC la plus élevée étant de 3,2 mill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ût moyen/ adhérent PEC 2014: 25658 fran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,5 milliards de francs distribués aux prestataires depuis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Verdana"/>
              </a:rPr>
              <a:t>Plus d’un milliard de francs de ré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hiffres d’affaires depuis 2008 (2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2643120"/>
          <a:ext cx="8229600" cy="26146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Hôpital Ou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Aoudi B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MA Schiph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ffres d’affaire auprès de la MUF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I) Les enseignements à tirer    (2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Les déterminants de l’escalade des coû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atégorie socioéconomique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communication journée scientifique de Nouna 200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vitamines et fortifiant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,53% des dépenses en  médicaments en 2010; principe de l’élasticité prix de la demand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non respect des schémas thérapeut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cas du palu: 22,68% ordonnances et 21, 84% dépenses de santé; non respect des GDT et des algorithmes =&gt; molécule spécifique =1/3 du coût de l’ordonnance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recours excessif aux médicaments de spécialité ayant des équivalents génér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2 millions/ 364 millions soit 22% de surcoût de dépenses en médicaments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4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se en charge des gros risques et des petits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etits risques: facteur inflationniste (élasticité prix de la demande est for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ulation mutuelle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petit risque et contrôle social) 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MU BF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gros risque dont la demande est inélast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fficacité des mécanismes de régulation (Régulateur des soins: GDT, algorith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 panier de soins en relation avec la capacité de gestion du risque mo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) Contexte et justifications (3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) besoins croissants en matière de santé (démographique, épidémiologique , technologiq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) fin de l’État 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) l’accessibilité aux soins comme objectif du PNDS au Burkina F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) forte attente du militaire pour une meilleure protection soc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) contexte réglementaire favorable à la création de structure de couvertures sociales (art 19 du statut général des personnels des F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) plus grande opérationnalité de l’Armé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) contribution à l’équilibre financier  (les hommes à l’abri des usuri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8)  l’hôpital militaire au service réel du mili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II) Étude de faisabilité: objectifs (4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(étude faite en 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urcentage de militaires confrontés à une inaccessibilité financière aux so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pinion sur une mutuelle de san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Times New Roman"/>
              </a:rPr>
              <a:t>Étude de faisabilité: les points clés (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55,9% des enquêtés ont été confrontés à une inaccessibilité financière aux soins (intervalle de trois mo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849240" y="2058840"/>
            <a:ext cx="767232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7)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Object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ntentions formelles d’adhésion 61.98%  (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ants de l’adhé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a Caisse Épargne Santé     </a:t>
            </a:r>
            <a:r>
              <a:rPr b="0" i="1" lang="fr-FR" sz="2000" spc="-1" strike="noStrike" u="sng">
                <a:solidFill>
                  <a:srgbClr val="ff0000"/>
                </a:solidFill>
                <a:uFillTx/>
                <a:latin typeface="Verdana"/>
              </a:rPr>
              <a:t>(influence nég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a solidarité                  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’aversion pour le risque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rime (solidarité: prime&lt;ou= 1000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Disposition à payer: Propositions de primes faites par les enquêtés (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2286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19:19Z</dcterms:created>
  <dc:creator>DEP</dc:creator>
  <dc:description/>
  <dc:language>en-US</dc:language>
  <cp:lastModifiedBy>Baly Ouattara</cp:lastModifiedBy>
  <dcterms:modified xsi:type="dcterms:W3CDTF">2015-06-09T13:57:14Z</dcterms:modified>
  <cp:revision>127</cp:revision>
  <dc:subject/>
  <dc:title>MUTUELLE DES FAN</dc:title>
</cp:coreProperties>
</file>